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C075-9B28-465F-9D1A-ADF4BF40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2A1-A8B1-4C7C-B601-A9E03E56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E71-D336-4643-8FBB-3FACE370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209-AD91-40E4-988D-69CBBCED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C128-E3DF-4D26-AF65-34630021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2E0D-FA27-4F53-9135-8E3D0BA4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AA8B-8ACE-4D6E-A003-78761272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9657-A974-46A3-9A99-FBF14762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33A7-ACCA-43F7-BFA8-CB86D731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469C-03E1-4599-AB6B-F03876B3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E33E-98E2-4D8E-8977-BBE12BE0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5EE7-E396-455D-B34B-91BE9BC1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CC43-D9B9-4AD9-95EF-9FEFEC5C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69E8-4847-4F8D-9BDE-89DB729A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8EB9-C3D8-408A-92C6-D8E1D8C0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5B41-2CAC-4B4F-95BD-89076251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0A10-8BAE-4D30-9191-44FBFDED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A18-052D-4A40-9E10-FC743ED7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922D-FE60-4DB2-A478-93C4CA86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B7D-7D32-4D90-8840-ACB0C24F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A9D7-8E52-4C32-8AEF-397DD5AD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EA9-8D08-407F-9EE1-C1983651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B25A-74BF-4ADD-8921-879704A9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275-D021-44D9-9086-CE7A820C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8A8E-3DC0-4F84-B35F-06E41BEB41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617C-A9A4-4C8F-B553-3D6690F247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has eaten a few too many bananas today and is not sure how much he weighs.  He decides he wants to attempt the feat, but wants to place a net to catch him to play it safe.  At what point in the circle is the vine more likely to bre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TPChart"/>
          <p:cNvGraphicFramePr/>
          <p:nvPr/>
        </p:nvGraphicFramePr>
        <p:xfrm>
          <a:off x="4508640" y="2057400"/>
          <a:ext cx="4570200" cy="47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57400"/>
                    <a:ext cx="457020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4114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bot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13-g rubber stopper is attached to a 93 cm string and is swung in a horizontal circle, making one revolution in 1.18 seconds.  What is the tension in the st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7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34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6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42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ResponseCounter"/>
          <p:cNvGrpSpPr/>
          <p:nvPr/>
        </p:nvGrpSpPr>
        <p:grpSpPr>
          <a:xfrm>
            <a:off x="127080" y="1308240"/>
            <a:ext cx="1511280" cy="5422320"/>
            <a:chOff x="127080" y="1308240"/>
            <a:chExt cx="1511280" cy="5422320"/>
          </a:xfrm>
        </p:grpSpPr>
        <p:sp>
          <p:nvSpPr>
            <p:cNvPr id="167" name="RCPole"/>
            <p:cNvSpPr/>
            <p:nvPr/>
          </p:nvSpPr>
          <p:spPr>
            <a:xfrm>
              <a:off x="317520" y="1523880"/>
              <a:ext cx="0" cy="50796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CFlag"/>
            <p:cNvSpPr/>
            <p:nvPr/>
          </p:nvSpPr>
          <p:spPr>
            <a:xfrm>
              <a:off x="368280" y="5841720"/>
              <a:ext cx="1270080" cy="76176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98640 h 761760"/>
                <a:gd name="textAreaBottom" fmla="*/ 663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CTop"/>
            <p:cNvSpPr/>
            <p:nvPr/>
          </p:nvSpPr>
          <p:spPr>
            <a:xfrm>
              <a:off x="127080" y="1308240"/>
              <a:ext cx="381240" cy="253800"/>
            </a:xfrm>
            <a:prstGeom prst="ellipse">
              <a:avLst/>
            </a:prstGeom>
            <a:solidFill>
              <a:srgbClr val="7b46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CBottom"/>
            <p:cNvSpPr/>
            <p:nvPr/>
          </p:nvSpPr>
          <p:spPr>
            <a:xfrm>
              <a:off x="127080" y="6603840"/>
              <a:ext cx="406440" cy="12672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radius is changed to 47 cm, but the speed remained constant, what would the tension be in the str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73" name="RCFill"/>
            <p:cNvSpPr/>
            <p:nvPr/>
          </p:nvSpPr>
          <p:spPr>
            <a:xfrm>
              <a:off x="127080" y="6451560"/>
              <a:ext cx="1440" cy="253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75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TPChar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7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34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68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42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arge must the coefficient of friction be between the tires and the road if a car is to round a level curve of radius 125 m at a speed of 21 m/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80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7b46d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2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1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5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not possible and the car will never make it around the cur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uck with a mass of 50,000 kg and moving at a speed of 25 m/s crosses the top of a hill (radius 75 m).  Will the truck stay on the road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9528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be, we don’t have enough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90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7b46d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uck with a mass of 50,000 kg and moving at a speed of 25 m/s crosses the top of a hill (radius 75 m).  What is the normal force on the truc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194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7b46d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6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3, 333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0,000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16,667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00, 000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uck with a mass of 50,000 kg and moving at a speed of 25 m/s crosses the top of a hill (radius 75 m).  If the truck wanted to get airborne what speed would it need to reac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114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7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4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4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04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7b46d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 car with a mass of 1000 kg went over the same hill as the truck, what speed would it need to reach in order to get airbor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er than that of the tr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er than that of the tr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as the tru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don’t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ResponseCounter"/>
          <p:cNvGrpSpPr/>
          <p:nvPr/>
        </p:nvGrpSpPr>
        <p:grpSpPr>
          <a:xfrm>
            <a:off x="127080" y="5778360"/>
            <a:ext cx="952200" cy="952560"/>
            <a:chOff x="127080" y="5778360"/>
            <a:chExt cx="952200" cy="952560"/>
          </a:xfrm>
        </p:grpSpPr>
        <p:sp>
          <p:nvSpPr>
            <p:cNvPr id="211" name="RCOut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7b46d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CInner"/>
            <p:cNvSpPr/>
            <p:nvPr/>
          </p:nvSpPr>
          <p:spPr>
            <a:xfrm>
              <a:off x="127080" y="577836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rge of the jungle was dared to swing on a vine that is 8 m long and make a complete vertical circle.  If the vine he is using can only hold up to 1000 N, and George will swing at a constant speed of 7 m/s, what is the maximum mass that he can have without breaking the vi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TPChart"/>
          <p:cNvGraphicFramePr/>
          <p:nvPr/>
        </p:nvGraphicFramePr>
        <p:xfrm>
          <a:off x="4572000" y="1981080"/>
          <a:ext cx="457056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81080"/>
                    <a:ext cx="457056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114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 k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 k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4 k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8 k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6:05:23Z</dcterms:created>
  <dc:creator>End User</dc:creator>
  <dc:description/>
  <dc:language>en-US</dc:language>
  <cp:lastModifiedBy>End User</cp:lastModifiedBy>
  <dcterms:modified xsi:type="dcterms:W3CDTF">2008-04-24T12:03:19Z</dcterms:modified>
  <cp:revision>11</cp:revision>
  <dc:subject/>
  <dc:title>Slide 1</dc:title>
</cp:coreProperties>
</file>